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8.png" ContentType="image/png"/>
  <Override PartName="/ppt/media/image19.wmf" ContentType="image/x-wmf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  <p:custShowLst>
    <p:custShow name="Произвольный показ 1" id="0">
      <p:sldLst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096-BA87-4F59-A18C-7750C69B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715-549F-4625-90CA-E251A7B5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7D2C-A745-40C6-9EC9-19E558C7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4BF4-33B5-4625-AB87-22E72C9B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782-1873-4E81-9DDF-AC3C0B48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9A4-DD01-44D6-9A2A-D95525D6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16D-BF16-4CD4-9B73-37080452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B545-A539-4CC2-9D41-CA133059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CB4-E2A3-47D3-8C2E-BCA7E3DF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04D-27A7-4BA4-BDAF-B947A74B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474-36E4-4751-AE89-94E8380F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EC0D-7A4C-4003-90EC-86154BC0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f6a5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61DC-0109-48E0-8F27-4CCE10EB67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f6a5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836640"/>
            <a:ext cx="820728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 книжн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кровищн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евней Рус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f6a5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Файл:Glagoljica Az.svg"/>
          <p:cNvPicPr/>
          <p:nvPr/>
        </p:nvPicPr>
        <p:blipFill>
          <a:blip r:embed="rId1"/>
          <a:stretch/>
        </p:blipFill>
        <p:spPr>
          <a:xfrm>
            <a:off x="1187280" y="1413000"/>
            <a:ext cx="3140280" cy="3456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Файл:Glagoljica Buki.svg"/>
          <p:cNvPicPr/>
          <p:nvPr/>
        </p:nvPicPr>
        <p:blipFill>
          <a:blip r:embed="rId2"/>
          <a:stretch/>
        </p:blipFill>
        <p:spPr>
          <a:xfrm>
            <a:off x="5003640" y="1628640"/>
            <a:ext cx="30164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f6a5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[800px-Kiev_caves.jpg]"/>
          <p:cNvPicPr/>
          <p:nvPr/>
        </p:nvPicPr>
        <p:blipFill>
          <a:blip r:embed="rId1"/>
          <a:stretch/>
        </p:blipFill>
        <p:spPr>
          <a:xfrm>
            <a:off x="684360" y="7650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f6a5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ак украшали книг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Rectangle 3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6264360" cy="3916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5950080"/>
            <a:ext cx="835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наментом, изящными миниатюрами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чальная буква превращалась в настоящее чуд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f6a5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укопись, каждая глава и отдельная страница начинались и заканчивались рисун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Rectangle 3" descr=""/>
          <p:cNvPicPr/>
          <p:nvPr/>
        </p:nvPicPr>
        <p:blipFill>
          <a:blip r:embed="rId1"/>
          <a:stretch/>
        </p:blipFill>
        <p:spPr>
          <a:xfrm>
            <a:off x="4648320" y="4005360"/>
            <a:ext cx="4495680" cy="194472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4495680" cy="3587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573408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Застав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32360" y="301608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Концов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f6a5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Что служило обложкой книг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5589720"/>
            <a:ext cx="878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плёт делался из досок и обтягивался кожей или тканью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плёты дорогих книг были роскошно отделаны золотом и драгоценными камня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Картинка 9 из 4484"/>
          <p:cNvPicPr/>
          <p:nvPr/>
        </p:nvPicPr>
        <p:blipFill>
          <a:blip r:embed="rId1"/>
          <a:stretch/>
        </p:blipFill>
        <p:spPr>
          <a:xfrm>
            <a:off x="1042920" y="836640"/>
            <a:ext cx="6985080" cy="4721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f6a5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51720" y="151920"/>
            <a:ext cx="71805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Пиктография – это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) рисуночное письмо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) письмо буквам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Иероглифы – это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) письмо буквам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) письмо знакам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Памятник Кириллу и Мефодию открыт, потому что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) они создатели славянской азбук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) они являются первопечатникам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Кириллица – это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азбука азиатских народов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) славянская азбук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Летописец – это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) монах, который записывал историю страны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) человек, который писал летние пейзаж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Киноварь – это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) краска розовых оттенков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)  краска желто- красного цвет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Пергамент – это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) особым образом выделанная кожа для письм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) оберточная бумаг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f6a5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9480" y="1268280"/>
            <a:ext cx="8484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Домашнее задание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стр. 58, Проверь себя (устно),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задани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f6a5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 rot="21473400">
            <a:off x="2259000" y="1468080"/>
            <a:ext cx="5832360" cy="31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пасибо  за  урок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" name="Picture 5" descr="свиток2"/>
          <p:cNvPicPr/>
          <p:nvPr/>
        </p:nvPicPr>
        <p:blipFill>
          <a:blip r:embed="rId1"/>
          <a:stretch/>
        </p:blipFill>
        <p:spPr>
          <a:xfrm>
            <a:off x="6156360" y="3645000"/>
            <a:ext cx="2624040" cy="2736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SO02060_"/>
          <p:cNvPicPr/>
          <p:nvPr/>
        </p:nvPicPr>
        <p:blipFill>
          <a:blip r:embed="rId2"/>
          <a:stretch/>
        </p:blipFill>
        <p:spPr>
          <a:xfrm>
            <a:off x="0" y="0"/>
            <a:ext cx="3851280" cy="346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74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f6a5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50920" y="115920"/>
            <a:ext cx="86421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тельно слушай товарища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00000" y="1484280"/>
            <a:ext cx="734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вори по очереди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2276640"/>
            <a:ext cx="799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перебивай друга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1280" y="3357720"/>
            <a:ext cx="784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важай мнение ребят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5640" y="4724280"/>
            <a:ext cx="80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моги товарищу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8000" y="5418000"/>
            <a:ext cx="9036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ли ему понадобится помощь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f6a5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7800" cy="5557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692280"/>
            <a:ext cx="1955880" cy="576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4869000"/>
            <a:ext cx="2232000" cy="576000"/>
          </a:xfrm>
          <a:prstGeom prst="rect">
            <a:avLst/>
          </a:prstGeom>
          <a:gradFill rotWithShape="0">
            <a:gsLst>
              <a:gs pos="0">
                <a:srgbClr val="fdfddb"/>
              </a:gs>
              <a:gs pos="100000">
                <a:srgbClr val="ff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869000"/>
            <a:ext cx="2160720" cy="576000"/>
          </a:xfrm>
          <a:prstGeom prst="rect">
            <a:avLst/>
          </a:prstGeom>
          <a:solidFill>
            <a:srgbClr val="ff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692280"/>
            <a:ext cx="2303640" cy="863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2708280"/>
            <a:ext cx="2016360" cy="1297080"/>
          </a:xfrm>
          <a:prstGeom prst="rect">
            <a:avLst/>
          </a:prstGeom>
          <a:solidFill>
            <a:srgbClr val="ff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781360"/>
            <a:ext cx="1944720" cy="10792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5587920"/>
            <a:ext cx="872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наблюдает, скучает, задаёт вопросы, анализирует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егает, работает с литературой, отбирает нужны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материал, играет,  рассужда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f6a5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29080" cy="3997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924360" y="1052640"/>
            <a:ext cx="5219640" cy="3914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f6a5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69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Святые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Кирилл и Мефодий – </a:t>
            </a:r>
            <a:br>
              <a:rPr sz="3600"/>
            </a:b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основоположники славянской азб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184720" cy="454176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f6a5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4046400" cy="639288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f6a5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Pict0001"/>
          <p:cNvPicPr/>
          <p:nvPr/>
        </p:nvPicPr>
        <p:blipFill>
          <a:blip r:embed="rId1"/>
          <a:srcRect l="0" t="0" r="-23" b="0"/>
          <a:stretch/>
        </p:blipFill>
        <p:spPr>
          <a:xfrm>
            <a:off x="324000" y="620640"/>
            <a:ext cx="8640720" cy="5264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f6a5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kga" descr="Картинка 44 из 5570"/>
          <p:cNvPicPr/>
          <p:nvPr/>
        </p:nvPicPr>
        <p:blipFill>
          <a:blip r:embed="rId1"/>
          <a:stretch/>
        </p:blipFill>
        <p:spPr>
          <a:xfrm>
            <a:off x="2050920" y="34920"/>
            <a:ext cx="4686480" cy="6823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f6a5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Файл:Glagoljica Az.svg"/>
          <p:cNvPicPr/>
          <p:nvPr/>
        </p:nvPicPr>
        <p:blipFill>
          <a:blip r:embed="rId1"/>
          <a:stretch/>
        </p:blipFill>
        <p:spPr>
          <a:xfrm>
            <a:off x="395280" y="765000"/>
            <a:ext cx="2355840" cy="259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564000" y="549360"/>
            <a:ext cx="2111400" cy="2952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Файл:Glagoljica Buki.svg"/>
          <p:cNvPicPr/>
          <p:nvPr/>
        </p:nvPicPr>
        <p:blipFill>
          <a:blip r:embed="rId3"/>
          <a:stretch/>
        </p:blipFill>
        <p:spPr>
          <a:xfrm>
            <a:off x="684360" y="4005360"/>
            <a:ext cx="2174760" cy="223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564000" y="3933720"/>
            <a:ext cx="2363760" cy="2505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6443640" y="1413000"/>
            <a:ext cx="136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16720" y="4437000"/>
            <a:ext cx="2087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К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6:12:12Z</dcterms:created>
  <dc:creator>Учитель</dc:creator>
  <dc:description/>
  <dc:language>en-US</dc:language>
  <cp:lastModifiedBy>Customer</cp:lastModifiedBy>
  <dcterms:modified xsi:type="dcterms:W3CDTF">2012-05-09T18:22:07Z</dcterms:modified>
  <cp:revision>24</cp:revision>
  <dc:subject/>
  <dc:title>Слайд 1</dc:title>
</cp:coreProperties>
</file>